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7E0-7C67-46B8-B017-4BB8CCF5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516-90DC-492B-9393-BE51397C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398-8FFF-4D97-82FE-69773D19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A2F-498E-44C8-BF09-02778DB8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3F5-40AA-41CE-BDCB-0F0F0CE1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43F-530D-436D-8E9D-8255CE39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7B8-8A41-43E9-AFD0-367D3F06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AFA4-93EE-4A38-8DC5-C71B9660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A8D-723C-4F4F-9A7A-3565FBA7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FF6-EC49-493A-B936-0C8939C9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357-C976-40E2-B448-95DD481A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D23-E4BC-4D54-8DA8-82DF660A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1924-D827-48D0-962D-43D347CAF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 Bielecki Gr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California Image"/>
          <p:cNvPicPr/>
          <p:nvPr/>
        </p:nvPicPr>
        <p:blipFill>
          <a:blip r:embed="rId1"/>
          <a:stretch/>
        </p:blipFill>
        <p:spPr>
          <a:xfrm>
            <a:off x="533520" y="1828800"/>
            <a:ext cx="23810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fornia’s population is 34,501,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8686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ornia’s 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fornia’s capital is Sacramento. California is called the golde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5410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Qua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alifornia They are used to earth quakes that they have houses that move with the earth qu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7848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4:01:03Z</dcterms:created>
  <dc:creator>Student</dc:creator>
  <dc:description/>
  <dc:language>en-US</dc:language>
  <cp:lastModifiedBy>Student</cp:lastModifiedBy>
  <dcterms:modified xsi:type="dcterms:W3CDTF">2012-05-14T14:28:13Z</dcterms:modified>
  <cp:revision>3</cp:revision>
  <dc:subject/>
  <dc:title>California</dc:title>
</cp:coreProperties>
</file>